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A2B-777E-484A-80B4-17856A58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48B-FA84-41C4-A1B8-437881E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1D3-0CFF-4134-A214-1101F784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A12-625B-4FBE-8478-9FA87A6E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D095-1060-4971-89AD-5303402B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E074-09A4-42FA-8E5C-C7C9222E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47A3-12CF-4D17-AAF6-BDFBDD5D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9854-87AC-4FAC-AD74-A2F4E1A4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F968-671B-4975-90D6-E77B94FF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FD6B-51DA-497E-9BE2-16B5D197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84DF-E3B6-4EB8-AD03-7DB1B87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636-3A18-4D41-887D-EC305030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321-4156-4A41-9C95-333CFAD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6F72-7C73-43DD-B0CC-3DB6C40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513F-2A4D-4853-9D8A-13316A66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4759-DFF1-407D-9734-A136169D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962E-6BF8-46DE-81E2-79ACF488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0CA-D2E1-4ECF-AB02-910AC8B2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0C6-22FB-4E95-8429-5C4F244B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5EB-F26D-4B1D-B679-7663E2CB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76D-5F19-4485-9BAF-81FD095E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9EE-2282-47EF-84C2-F1EFF55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FB1-F2D9-4287-BC24-ADE3704F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5C1-8C90-4395-BFDE-E40589D8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B2DF-EF79-41CC-A332-6DFC9A8851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92C4-167E-43ED-A1A6-7602AF55B8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hat traditions did they have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y Frank and Matth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ome Maori Trad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he traditional dance is the Hak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18280" y="3284640"/>
            <a:ext cx="2925720" cy="3959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665440"/>
            <a:ext cx="46450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raditional Hon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 traditional hongi is a press of the nose it is polite and respectfu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3444840"/>
            <a:ext cx="4176720" cy="286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A triditional Maori h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his is a maori traditional hu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76908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is is the kapa-Haka group pic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066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 Tim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is cool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Hope you enjoyed our powerpoi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327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2:51:15Z</dcterms:created>
  <dc:creator>5d15</dc:creator>
  <dc:description/>
  <dc:language>en-US</dc:language>
  <cp:lastModifiedBy>5d05</cp:lastModifiedBy>
  <dcterms:modified xsi:type="dcterms:W3CDTF">2013-06-19T02:55:56Z</dcterms:modified>
  <cp:revision>8</cp:revision>
  <dc:subject/>
  <dc:title>What traditions did they have?</dc:title>
</cp:coreProperties>
</file>